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highchime.wav" ContentType="audio/x-wav"/>
  <Override PartName="/ppt/media/bserie06.wav" ContentType="audio/x-wav"/>
  <Override PartName="/ppt/media/jetflyby2.wav" ContentType="audio/x-wav"/>
  <Override PartName="/ppt/media/caralarmoff.wav" ContentType="audio/x-wav"/>
  <Override PartName="/ppt/media/lzipup01.wav" ContentType="audio/x-wav"/>
  <Override PartName="/ppt/media/zapbig0g.wav" ContentType="audio/x-wav"/>
  <Override PartName="/ppt/media/zipdn102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B51D-5645-432B-B0D5-E997246A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2FF4-D95A-4EFF-9567-DFECC0BC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EE40-DA60-48ED-85B2-229359BD9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6B55-9091-43DE-8660-1BB0AE4A9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127D-6C3C-4AD2-9F55-CBE0F66C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FB2A-2C00-419F-BB62-D069C5D2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E7BC-E6B5-495B-A0F1-CEF029BF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B780-4C9C-4B96-971C-184CA11D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EF95-E2BB-4DD7-8D29-018E0BC8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0E6E-8F1B-4486-9D68-EA5F40C1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9133-FF01-4DBB-B1D5-4561F798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CECB-39A1-4EE8-905F-E53E4EB5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D4F2-0B89-4202-BB35-17E377103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bserie06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bserie06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bserie06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bserie06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bserie06.wav"/><Relationship Id="rId18" Type="http://schemas.openxmlformats.org/officeDocument/2006/relationships/audio" Target="../media/jetflyby2.wav"/><Relationship Id="rId19" Type="http://schemas.openxmlformats.org/officeDocument/2006/relationships/audio" Target="../media/jetflyby2.wav"/><Relationship Id="rId20" Type="http://schemas.openxmlformats.org/officeDocument/2006/relationships/audio" Target="../media/bserie06.wav"/><Relationship Id="rId21" Type="http://schemas.openxmlformats.org/officeDocument/2006/relationships/audio" Target="../media/jetflyby2.wav"/><Relationship Id="rId22" Type="http://schemas.openxmlformats.org/officeDocument/2006/relationships/audio" Target="../media/jetflyby2.wav"/><Relationship Id="rId23" Type="http://schemas.openxmlformats.org/officeDocument/2006/relationships/audio" Target="../media/bserie06.wav"/><Relationship Id="rId24" Type="http://schemas.openxmlformats.org/officeDocument/2006/relationships/audio" Target="../media/jetflyby2.wav"/><Relationship Id="rId25" Type="http://schemas.openxmlformats.org/officeDocument/2006/relationships/audio" Target="../media/jetflyby2.wav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bserie06.wav"/><Relationship Id="rId3" Type="http://schemas.openxmlformats.org/officeDocument/2006/relationships/audio" Target="../media/zapbig0g.wav"/><Relationship Id="rId4" Type="http://schemas.openxmlformats.org/officeDocument/2006/relationships/audio" Target="../media/bserie06.wav"/><Relationship Id="rId5" Type="http://schemas.openxmlformats.org/officeDocument/2006/relationships/audio" Target="../media/zapbig0g.wav"/><Relationship Id="rId6" Type="http://schemas.openxmlformats.org/officeDocument/2006/relationships/audio" Target="../media/bserie06.wav"/><Relationship Id="rId7" Type="http://schemas.openxmlformats.org/officeDocument/2006/relationships/audio" Target="../media/zapbig0g.wav"/><Relationship Id="rId8" Type="http://schemas.openxmlformats.org/officeDocument/2006/relationships/audio" Target="../media/bserie06.wav"/><Relationship Id="rId9" Type="http://schemas.openxmlformats.org/officeDocument/2006/relationships/audio" Target="../media/zapbig0g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zapbig0g.wav"/><Relationship Id="rId3" Type="http://schemas.openxmlformats.org/officeDocument/2006/relationships/audio" Target="../media/bserie06.wav"/><Relationship Id="rId4" Type="http://schemas.openxmlformats.org/officeDocument/2006/relationships/audio" Target="../media/zapbig0g.wav"/><Relationship Id="rId5" Type="http://schemas.openxmlformats.org/officeDocument/2006/relationships/audio" Target="../media/bserie06.wav"/><Relationship Id="rId6" Type="http://schemas.openxmlformats.org/officeDocument/2006/relationships/audio" Target="../media/zapbig0g.wav"/><Relationship Id="rId7" Type="http://schemas.openxmlformats.org/officeDocument/2006/relationships/audio" Target="../media/bserie06.wav"/><Relationship Id="rId8" Type="http://schemas.openxmlformats.org/officeDocument/2006/relationships/audio" Target="../media/zapbig0g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bserie06.wav"/><Relationship Id="rId3" Type="http://schemas.openxmlformats.org/officeDocument/2006/relationships/audio" Target="../media/zipdn102.wav"/><Relationship Id="rId4" Type="http://schemas.openxmlformats.org/officeDocument/2006/relationships/audio" Target="../media/zipdn102.wav"/><Relationship Id="rId5" Type="http://schemas.openxmlformats.org/officeDocument/2006/relationships/audio" Target="../media/bserie06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zipdn102.wav"/><Relationship Id="rId9" Type="http://schemas.openxmlformats.org/officeDocument/2006/relationships/audio" Target="../media/zipdn102.wav"/><Relationship Id="rId10" Type="http://schemas.openxmlformats.org/officeDocument/2006/relationships/audio" Target="../media/zipdn102.wav"/><Relationship Id="rId11" Type="http://schemas.openxmlformats.org/officeDocument/2006/relationships/audio" Target="../media/zipdn102.wav"/><Relationship Id="rId12" Type="http://schemas.openxmlformats.org/officeDocument/2006/relationships/audio" Target="../media/zipdn102.wav"/><Relationship Id="rId13" Type="http://schemas.openxmlformats.org/officeDocument/2006/relationships/audio" Target="../media/bserie06.wav"/><Relationship Id="rId14" Type="http://schemas.openxmlformats.org/officeDocument/2006/relationships/audio" Target="../media/zipdn102.wav"/><Relationship Id="rId15" Type="http://schemas.openxmlformats.org/officeDocument/2006/relationships/audio" Target="../media/zipdn102.wav"/><Relationship Id="rId16" Type="http://schemas.openxmlformats.org/officeDocument/2006/relationships/audio" Target="../media/zipdn102.wav"/><Relationship Id="rId17" Type="http://schemas.openxmlformats.org/officeDocument/2006/relationships/audio" Target="../media/bserie06.wav"/><Relationship Id="rId18" Type="http://schemas.openxmlformats.org/officeDocument/2006/relationships/audio" Target="../media/zipdn102.wav"/><Relationship Id="rId19" Type="http://schemas.openxmlformats.org/officeDocument/2006/relationships/audio" Target="../media/bserie06.wav"/><Relationship Id="rId20" Type="http://schemas.openxmlformats.org/officeDocument/2006/relationships/audio" Target="../media/highchime.wav"/><Relationship Id="rId21" Type="http://schemas.openxmlformats.org/officeDocument/2006/relationships/audio" Target="../media/bserie06.wav"/><Relationship Id="rId22" Type="http://schemas.openxmlformats.org/officeDocument/2006/relationships/audio" Target="../media/zipdn102.wav"/><Relationship Id="rId23" Type="http://schemas.openxmlformats.org/officeDocument/2006/relationships/audio" Target="../media/zipdn102.wav"/><Relationship Id="rId24" Type="http://schemas.openxmlformats.org/officeDocument/2006/relationships/audio" Target="../media/zipdn102.wav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93720" y="984240"/>
          <a:ext cx="6095880" cy="5200560"/>
        </p:xfrm>
        <a:graphic>
          <a:graphicData uri="http://schemas.openxmlformats.org/drawingml/2006/table">
            <a:tbl>
              <a:tblPr/>
              <a:tblGrid>
                <a:gridCol w="755280"/>
                <a:gridCol w="5340600"/>
              </a:tblGrid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isibility Ru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1452960" y="1569960"/>
            <a:ext cx="236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33160" y="2149560"/>
            <a:ext cx="529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 of the digits divisible by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4680" y="2728800"/>
            <a:ext cx="451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2 digits divisible by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53680" y="3292560"/>
            <a:ext cx="316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s with a 5 or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000" y="3886200"/>
            <a:ext cx="225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2 and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4680" y="4449600"/>
            <a:ext cx="451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3 digits divisible by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9000" y="5014800"/>
            <a:ext cx="529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 of the digits divisible by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61960" y="5594400"/>
            <a:ext cx="24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s with a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19920" y="147780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10640" y="1476360"/>
            <a:ext cx="100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19920" y="205596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910640" y="2054160"/>
            <a:ext cx="100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35760" y="266544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926480" y="2664000"/>
            <a:ext cx="100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0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50160" y="326088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940520" y="3259080"/>
            <a:ext cx="100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5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50160" y="377820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940520" y="3776760"/>
            <a:ext cx="100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0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34320" y="4389480"/>
            <a:ext cx="103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0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939080" y="4373640"/>
            <a:ext cx="12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0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50160" y="496728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940520" y="4965840"/>
            <a:ext cx="100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0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04080" y="550224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726320" y="5500800"/>
            <a:ext cx="141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3" dur="1" fill="hold"/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762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Tell whether the first number is a factor of the second numb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69800" y="1906560"/>
                <a:ext cx="22989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; 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 txBox="1"/>
          <p:nvPr/>
        </p:nvSpPr>
        <p:spPr>
          <a:xfrm rot="559800">
            <a:off x="1328400" y="2274480"/>
            <a:ext cx="933480" cy="29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lin ang="7542000"/>
                </a:gradFill>
                <a:latin typeface="Arial Black"/>
              </a:rPr>
              <a:t>Yes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efefe"/>
                  </a:gs>
                </a:gsLst>
                <a:lin ang="7542000"/>
              </a:gradFill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213000" y="1890720"/>
                <a:ext cx="22989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; 9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 txBox="1"/>
          <p:nvPr/>
        </p:nvSpPr>
        <p:spPr>
          <a:xfrm rot="559800">
            <a:off x="4183200" y="2193840"/>
            <a:ext cx="68580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lin ang="7542000"/>
                </a:gradFill>
                <a:latin typeface="Arial Black"/>
              </a:rPr>
              <a:t>No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efefe"/>
                  </a:gs>
                </a:gsLst>
                <a:lin ang="7542000"/>
              </a:gradFill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108840" y="1860480"/>
                <a:ext cx="22986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; 7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 txBox="1"/>
          <p:nvPr/>
        </p:nvSpPr>
        <p:spPr>
          <a:xfrm rot="559800">
            <a:off x="7155000" y="2147760"/>
            <a:ext cx="68580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lin ang="7542000"/>
                </a:gradFill>
                <a:latin typeface="Arial Black"/>
              </a:rPr>
              <a:t>No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efefe"/>
                  </a:gs>
                </a:gsLst>
                <a:lin ang="7542000"/>
              </a:gradFill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182600" y="5372280"/>
                <a:ext cx="29448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5; 16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 txBox="1"/>
          <p:nvPr/>
        </p:nvSpPr>
        <p:spPr>
          <a:xfrm rot="559800">
            <a:off x="4559040" y="3943080"/>
            <a:ext cx="933480" cy="29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lin ang="7542000"/>
                </a:gradFill>
                <a:latin typeface="Arial Black"/>
              </a:rPr>
              <a:t>Yes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efefe"/>
                  </a:gs>
                </a:gsLst>
                <a:lin ang="7542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762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Tell whether the first number is a factor of the second numb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28680" y="1906560"/>
                <a:ext cx="25812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; 1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548240" y="1890720"/>
                <a:ext cx="32256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; 2,0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95200" y="4146480"/>
                <a:ext cx="32259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; 2,5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519440" y="4091040"/>
                <a:ext cx="31863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; 4,13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 txBox="1"/>
          <p:nvPr/>
        </p:nvSpPr>
        <p:spPr>
          <a:xfrm>
            <a:off x="1692360" y="2693880"/>
            <a:ext cx="647640" cy="112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o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973840" y="2709720"/>
            <a:ext cx="885600" cy="112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Ye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60680" y="4933800"/>
            <a:ext cx="885600" cy="112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Ye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462720" y="4843440"/>
            <a:ext cx="64764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o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0280" y="762120"/>
            <a:ext cx="825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Tell whether each number is divisible by 2, 3, 4, 5, 6, 8, 9, and 10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57120" y="1952640"/>
                <a:ext cx="28623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2,5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216080" y="2674800"/>
                <a:ext cx="6271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851120" y="2673360"/>
                <a:ext cx="66996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362480" y="1876320"/>
                <a:ext cx="35082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45,6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379760" y="2614680"/>
                <a:ext cx="71136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076720" y="2612880"/>
                <a:ext cx="6271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662440" y="2583000"/>
                <a:ext cx="71136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337440" y="2598840"/>
                <a:ext cx="66996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023240" y="2612880"/>
                <a:ext cx="66996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7709040" y="2598840"/>
                <a:ext cx="66996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8348760" y="2568600"/>
                <a:ext cx="7952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64960" y="3586320"/>
                <a:ext cx="322596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2,4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933480" y="4324320"/>
                <a:ext cx="71100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560600" y="4307040"/>
                <a:ext cx="71100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271600" y="4338720"/>
                <a:ext cx="6289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260960" y="3584520"/>
                <a:ext cx="32256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9,3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094440" y="4307040"/>
                <a:ext cx="66996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49200" y="5241960"/>
                <a:ext cx="31449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9,01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839880" y="5973840"/>
            <a:ext cx="307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imes New Roman"/>
              </a:rPr>
              <a:t>None of the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503600" y="5241960"/>
                <a:ext cx="32259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5,4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748480" y="5979960"/>
                <a:ext cx="62676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37440" y="5964120"/>
                <a:ext cx="66996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991200" y="5979960"/>
                <a:ext cx="66996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538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47, 6 – 1 #1-14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53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11-12T12:14:28Z</dcterms:modified>
  <cp:revision>60</cp:revision>
  <dc:subject/>
  <dc:title>Slide 1</dc:title>
</cp:coreProperties>
</file>